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1434B-72D4-47AE-AD37-294B497AA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9AE5-B6DB-403C-A60C-61E5EFC42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2237C-AACC-4C1C-8542-F4CE74468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3D5CC-552B-4985-985B-94E03A5B48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FD475-C131-4AD7-813E-202F77F2E2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99126-B732-47D5-9DF7-67056FCC9D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DCBB9-3183-43F6-BA2B-E14EAF7D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C3DC8-31DD-4ED0-A90D-2909AD57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747F4-B83A-4175-9F6F-B914F0E6B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C9D89-5DFD-43FB-AD2F-845789D46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6E03C-643F-4327-9CC1-CE9296621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8E45-CB51-4EDB-8EA9-C2DF9BB9B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75A9A-803D-4860-9BA4-CA10E667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98D06-BF8C-4479-BEF8-651D2AF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E7CC7-BF18-459B-9494-0E5F2AC6F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A54B3-F92A-4ADA-8DDE-1F0D9B8C1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C952E-786F-4C97-9958-8C03CB5DB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9903-DB57-485E-8B02-833AD03316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D3795-99A4-498A-B95A-2B42806D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48AC-D6C2-443C-AB43-EFF456FF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8E25-B5F0-439F-9BDA-24A83AE920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2FA57-D91E-44C2-9370-8FF72E94F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39C6B-7439-4F15-AC03-A895081B8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6C3AB-7427-457E-BE2E-8BF89DBE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8DD29-DCBB-46AF-B2B8-38BCC38642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6DDE1-BE00-4FDB-980F-2D5F74F09E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7</a:t>
            </a:r>
            <a:r>
              <a:rPr b="1" lang="ko-KR" sz="4800" spc="-1" strike="noStrike">
                <a:solidFill>
                  <a:srgbClr val="ffffb7"/>
                </a:solidFill>
                <a:latin typeface="굴림"/>
              </a:rPr>
              <a:t>장 교사의 인사 및 복무 </a:t>
            </a:r>
            <a:endParaRPr b="1" lang="en-US" sz="48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등과 자유에 대하여 생각해 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인사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사행정의 영역 또는 기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직무의 분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평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승진 및 배치전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등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7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쪽 참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인사행정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활동의 주체가 되는 교원이 이들을 지원하는 교육전문직과 일반직을 확보하고 자질을 향상시켜 근무의욕을 높여 주는 일련의 행정지원 활동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인사행정의 원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확립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실적주의와 연공서열주의의 적절한 조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정성 유지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재적소 배치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적정수급의 원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육공무원의 분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교수 학장 총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 중등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 교사 원감 원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학사 장학관 교육장 교육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연구사 교육연구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09" name="Picture 3" descr="MCj04042630000[1]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staff</cp:lastModifiedBy>
  <dcterms:modified xsi:type="dcterms:W3CDTF">2008-12-10T09:05:28Z</dcterms:modified>
  <cp:revision>7</cp:revision>
  <dc:subject/>
  <dc:title>제 6장 교사교육 </dc:title>
</cp:coreProperties>
</file>